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mmburger%5B1%5D.wav" ContentType="audio/x-wav"/>
  <Override PartName="/ppt/media/applause.wav" ContentType="audio/x-wav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BA6-E1B0-4AAF-AEFA-EFFFF705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D57-4571-43E7-AAB9-215C9AF8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631-8CCD-4FAE-8A37-60231521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1CD-6D64-4DD2-861E-1E3ED568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10CD-9D75-4B59-9E33-B2290067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2E67-803F-4800-BD6A-510BDE65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8E79-7267-4063-A3B3-5468B826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AB3F-F9F9-40B7-B1CA-1207649B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08A5-46E7-4EF6-9F8B-961849B0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93D1-0BE1-4070-BD1C-043C721C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8EBF-B435-4FCA-A737-452D9B8F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561-1659-4A6C-AAA1-79EEFA64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7CCE-BF33-4D7D-A1A2-469E0BEC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6D02-B9A4-4813-A7C7-9D83B406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3FEB-AC61-48EC-B6BA-5684CCAE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5FEA-19D2-49C5-B7EB-B4059CBC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35B4-1DA9-4C91-8082-A918B72C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467-2F04-4821-A791-149B345B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92E-4314-4E77-96C9-BC1D76A0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A51-5A49-4B15-938D-FC63B8A7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E83-98A3-49B6-932D-25B78392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49E-45DA-4C66-A7FA-267A2FD7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19E-48C0-4189-87A2-3F02F6F2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B18-9A2D-4295-BFBC-7C8165A3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468D-56E4-42D1-AB6A-FE9339E8A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7032-9CCD-45C8-92DC-5A2A75972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mmburger%5B1%5D.wav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76320" y="533520"/>
            <a:ext cx="551520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How To Do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an  A. P. Euro.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828800" y="403848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D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62520" y="4038480"/>
            <a:ext cx="1218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B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00800" y="403848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Q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362320" y="5867280"/>
            <a:ext cx="48765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9900"/>
                  </a:outerShdw>
                </a:effectLst>
                <a:latin typeface="Hot Pizza"/>
              </a:rPr>
              <a:t>Ms. Susan M. Pojer</a:t>
            </a:r>
            <a:endParaRPr b="0" lang="en-US" sz="2000" spc="1" strike="noStrike">
              <a:ln w="19080">
                <a:solidFill>
                  <a:srgbClr val="ff993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99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9900"/>
                  </a:outerShdw>
                </a:effectLst>
                <a:latin typeface="Hot Pizza"/>
              </a:rPr>
              <a:t>Horace Greeley HS   Chappaqua, NY</a:t>
            </a:r>
            <a:endParaRPr b="0" lang="en-US" sz="2000" spc="1" strike="noStrike">
              <a:ln w="19080">
                <a:solidFill>
                  <a:srgbClr val="ff993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99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43000" y="38088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658880"/>
            <a:ext cx="86104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00000"/>
              </a:lnSpc>
              <a:spcBef>
                <a:spcPts val="2001"/>
              </a:spcBef>
              <a:buClr>
                <a:srgbClr val="00c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Authorial Point of View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show awareness that the gender, occupation, class, religion, nationality, political position or ethnic identity of the author could influence his/her view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4295880"/>
            <a:ext cx="70106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does this apply to the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y has the author written what he/she h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5335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07324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0200" y="2957400"/>
            <a:ext cx="72802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Balthasar Rusow,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a Lutheran pastor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, was naturally upset by the celebration of a Saint’s Day,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since Lutherans don’t venerate saints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4300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85724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Reliability and accuracy of each source referenced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examine a source for its reliability and accuracy by questioning if the author of the document would be in a position to be accur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149800"/>
            <a:ext cx="6477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ight this help you answer the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1932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20" name=""/>
          <p:cNvSpPr/>
          <p:nvPr/>
        </p:nvSpPr>
        <p:spPr>
          <a:xfrm>
            <a:off x="581040" y="1814400"/>
            <a:ext cx="3000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698920"/>
            <a:ext cx="7543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Niccolo Machiavelli’s book on the political tactics of a Renaissance prince was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probably accurate as he observed the behavior of the prince, Cesare Borgia, for man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19320" y="5335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101680"/>
            <a:ext cx="8001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7720" indent="-74772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Tone or Intent of the Author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you examine the text of a document to determine its tone (satire, irony, indirect commentary, etc.) or the intent of the author. Especially useful for visual documents, like art work or political carto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14300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01132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895480"/>
            <a:ext cx="7051680" cy="283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692280">
              <a:lnSpc>
                <a:spcPct val="100000"/>
              </a:lnSpc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mic Sans MS"/>
              </a:rPr>
              <a:t>In his great sculpture of “David,” </a:t>
            </a:r>
            <a:r>
              <a:rPr b="1" i="1" lang="en-US" sz="3000" spc="-1" strike="noStrike">
                <a:solidFill>
                  <a:srgbClr val="ffcc00"/>
                </a:solidFill>
                <a:latin typeface="Comic Sans MS"/>
              </a:rPr>
              <a:t>Michelangelo wanted to convey the confidence, and even arrogance, of Renaissance Florence</a:t>
            </a:r>
            <a:r>
              <a:rPr b="1" i="1" lang="en-US" sz="3000" spc="-1" strike="noStrike">
                <a:solidFill>
                  <a:srgbClr val="ffffff"/>
                </a:solidFill>
                <a:latin typeface="Comic Sans MS"/>
              </a:rPr>
              <a:t> at the peak of its cultural influence in 16</a:t>
            </a:r>
            <a:r>
              <a:rPr b="1" i="1" lang="en-US" sz="30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i="1" lang="en-US" sz="3000" spc="-1" strike="noStrike">
                <a:solidFill>
                  <a:srgbClr val="ffffff"/>
                </a:solidFill>
                <a:latin typeface="Comic Sans MS"/>
              </a:rPr>
              <a:t> Europ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219320" y="6858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408400"/>
            <a:ext cx="76201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692280">
              <a:lnSpc>
                <a:spcPct val="100000"/>
              </a:lnSpc>
              <a:spcBef>
                <a:spcPts val="2001"/>
              </a:spcBef>
              <a:buClr>
                <a:srgbClr val="00c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Grouping of Docs. by Author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you show an awareness that certain types of authors, simply by their authorship, will express similar views when you group documents by type of aut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95280" y="533520"/>
            <a:ext cx="6782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208764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0200" y="2895480"/>
            <a:ext cx="72802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692280">
              <a:lnSpc>
                <a:spcPct val="100000"/>
              </a:lnSpc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As Northern Renaissance humanists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, Erasmus, Sir Thomas More, and Cervantes all poked fun at the foibles and scandals of late medieval society as well as of thei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66680" y="380880"/>
            <a:ext cx="7315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How to Reference a Document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in Your Essay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362320"/>
            <a:ext cx="79246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Baldassare Castiglione, in </a:t>
            </a:r>
            <a:r>
              <a:rPr b="1" i="1" lang="en-US" sz="2800" spc="-1" strike="noStrike">
                <a:solidFill>
                  <a:srgbClr val="ff896d"/>
                </a:solidFill>
                <a:latin typeface="Comic Sans MS"/>
              </a:rPr>
              <a:t>The Handbook of the Courti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, said:  “…………………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Erasmus of Rotterdam, a northern Christian humanis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, agreed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19c historian, Jacob Burkhardt, felt that ………………….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(Doc.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943600"/>
            <a:ext cx="78487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cc00"/>
                </a:solidFill>
                <a:uFillTx/>
                <a:latin typeface="Comic Sans MS"/>
              </a:rPr>
              <a:t>NEVER</a:t>
            </a:r>
            <a:r>
              <a:rPr b="1" i="1" lang="en-US" sz="3000" spc="-1" strike="noStrike">
                <a:solidFill>
                  <a:srgbClr val="ffcc00"/>
                </a:solidFill>
                <a:latin typeface="Comic Sans MS"/>
              </a:rPr>
              <a:t> begin with:  </a:t>
            </a:r>
            <a:r>
              <a:rPr b="1" i="1" lang="en-US" sz="3000" spc="-1" strike="noStrike">
                <a:solidFill>
                  <a:srgbClr val="ff896d"/>
                </a:solidFill>
                <a:latin typeface="Comic Sans MS"/>
              </a:rPr>
              <a:t>In Document 3, 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14400" y="609480"/>
            <a:ext cx="7696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Concluding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4019400"/>
            <a:ext cx="7010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dff0d"/>
                </a:solidFill>
                <a:uFillTx/>
                <a:latin typeface="Comic Sans MS"/>
              </a:rPr>
              <a:t>“Bottom Bun”</a:t>
            </a: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 of your ess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It holds it all together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3-4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35053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43000" y="457200"/>
            <a:ext cx="7010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A "Dazzling" D. B. Q.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Is Like a Tasty Hamburger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855" t="3329" r="5716" b="4203"/>
          <a:stretch/>
        </p:blipFill>
        <p:spPr>
          <a:xfrm>
            <a:off x="2567160" y="2286000"/>
            <a:ext cx="4138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8080" y="380880"/>
            <a:ext cx="7620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Concluding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581120"/>
            <a:ext cx="86868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Start with a “concluding phras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Restate your thesis statement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Comic Sans MS"/>
              </a:rPr>
              <a:t>a bit differently</a:t>
            </a: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Put your essay answer in a larger historical perspec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886200"/>
            <a:ext cx="739116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End of some trend/movement/idea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68440" indent="-457200">
              <a:lnSpc>
                <a:spcPct val="100000"/>
              </a:lnSpc>
              <a:spcBef>
                <a:spcPts val="1500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Beginning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some trend/movement/ide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End of one &amp; beginning of anoth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6844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Do NOT end on the note that this is the reason we are where we are toda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90720" y="457200"/>
            <a:ext cx="7315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Put It All Together And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2743200" y="1595520"/>
            <a:ext cx="3352680" cy="2214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666880" y="3629160"/>
            <a:ext cx="3810240" cy="2009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895480" y="5491080"/>
            <a:ext cx="35053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295280" y="4572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Ummm...Burger!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295280" y="54864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I Mean, "Dazzling" Essay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219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8f"/>
                </a:solidFill>
                <a:latin typeface="Comic Sans MS"/>
              </a:rPr>
              <a:t>Create a rough draft in outline form using this form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687840"/>
            <a:ext cx="739116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Skip a line from your intro.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Identify the “theme”/thesis of this first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“meat”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underline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US" sz="2200" spc="-1" strike="noStrike">
                <a:solidFill>
                  <a:srgbClr val="0dff0d"/>
                </a:solidFill>
                <a:latin typeface="Comic Sans MS"/>
              </a:rPr>
              <a:t>highlight</a:t>
            </a:r>
            <a:r>
              <a:rPr b="1" lang="en-US" sz="2200" spc="-1" strike="noStrike">
                <a:solidFill>
                  <a:srgbClr val="e02b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it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Indent bullets listing all facts/doc. info.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nd other </a:t>
            </a:r>
            <a:r>
              <a:rPr b="1" lang="en-US" sz="2200" spc="-1" strike="noStrike">
                <a:solidFill>
                  <a:srgbClr val="0dff0d"/>
                </a:solidFill>
                <a:latin typeface="Comic Sans MS"/>
              </a:rPr>
              <a:t>“o.i.”s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that you will need in that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When done with that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, skip a line and do the same for the other “meat”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¶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20968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a48f"/>
                </a:solidFill>
                <a:latin typeface="Comic Sans MS"/>
              </a:rPr>
              <a:t>Write out your introductory paragrap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a48f"/>
                </a:solidFill>
                <a:latin typeface="Comic Sans MS"/>
              </a:rPr>
              <a:t>Create a loose outline of your “meat” </a:t>
            </a:r>
            <a:r>
              <a:rPr b="1" lang="en-US" sz="2500" spc="-1" strike="noStrike">
                <a:solidFill>
                  <a:srgbClr val="ffa48f"/>
                </a:solidFill>
                <a:latin typeface="Arial"/>
              </a:rPr>
              <a:t>¶</a:t>
            </a:r>
            <a:r>
              <a:rPr b="1" lang="en-US" sz="2500" spc="-1" strike="noStrike">
                <a:solidFill>
                  <a:srgbClr val="ffa48f"/>
                </a:solidFill>
                <a:latin typeface="Comic Sans MS"/>
              </a:rPr>
              <a:t>s in this mann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95280" y="2286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For Homework Tonight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1752480"/>
            <a:ext cx="80769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Skip a line after your last “meat” </a:t>
            </a:r>
            <a:r>
              <a:rPr b="1" lang="en-US" sz="3000" spc="-1" strike="noStrike">
                <a:solidFill>
                  <a:srgbClr val="ffa48f"/>
                </a:solidFill>
                <a:latin typeface="Arial"/>
              </a:rPr>
              <a:t>¶</a:t>
            </a: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 and write you concluding </a:t>
            </a:r>
            <a:r>
              <a:rPr b="1" lang="en-US" sz="3000" spc="-1" strike="noStrike">
                <a:solidFill>
                  <a:srgbClr val="ffa48f"/>
                </a:solidFill>
                <a:latin typeface="Arial"/>
              </a:rPr>
              <a:t>¶</a:t>
            </a: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 out in fu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Bring your outline into class tomorrow and I will divide the class up into small “peer review” group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874"/>
              </a:spcBef>
              <a:buClr>
                <a:srgbClr val="00c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48f"/>
                </a:solidFill>
                <a:latin typeface="Comic Sans MS"/>
              </a:rPr>
              <a:t>You will then read over the outlines of the other group members and make suggestions/corrections IN A CONSTRUCTIVE MANN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95280" y="4572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For Homework Tonight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45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143000"/>
            <a:ext cx="822960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Write out your introductory paragraph in full,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Comic Sans MS"/>
              </a:rPr>
              <a:t>underlining your thesis statement</a:t>
            </a: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n-US" sz="3200" spc="-1" strike="noStrike">
                <a:solidFill>
                  <a:srgbClr val="0dff0d"/>
                </a:solidFill>
                <a:latin typeface="Arial"/>
              </a:rPr>
              <a:t>¶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1 </a:t>
            </a:r>
            <a:r>
              <a:rPr b="1" lang="en-US" sz="3200" spc="-1" strike="noStrike">
                <a:solidFill>
                  <a:srgbClr val="0dff0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 sub-topic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 document (Doc-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nother document (Doc-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Different info. from the same document (Doc-E)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ff0d"/>
                </a:solidFill>
                <a:latin typeface="Arial"/>
              </a:rPr>
              <a:t>¶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2 </a:t>
            </a:r>
            <a:r>
              <a:rPr b="1" lang="en-US" sz="3200" spc="-1" strike="noStrike">
                <a:solidFill>
                  <a:srgbClr val="0dff0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 sub-topic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 document (Doc-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nother document (Doc-H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3049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Outline Should Look Like This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1539720"/>
            <a:ext cx="80010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ff0d"/>
                </a:solidFill>
                <a:latin typeface="Arial"/>
              </a:rPr>
              <a:t>¶3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dff0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dff0d"/>
                </a:solidFill>
                <a:latin typeface="Comic Sans MS"/>
              </a:rPr>
              <a:t> sub-topic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 document (Doc-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Information from another document (Doc-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formation from another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w information from the same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outside information (OI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Write out your concluding paragraph in f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14400" y="45720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Outline Should Look Like This...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8080" y="457200"/>
            <a:ext cx="7543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Now, Write Your Essay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and "Dazzle" Me 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With Your Brilliance !!!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4080" y="4038480"/>
            <a:ext cx="2895840" cy="24926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9" repeatCount="2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09480" y="45720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Introductory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1447920" y="1900080"/>
            <a:ext cx="3352680" cy="221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38280" y="4572000"/>
            <a:ext cx="61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dff0d"/>
                </a:solidFill>
                <a:uFillTx/>
                <a:latin typeface="Comic Sans MS"/>
              </a:rPr>
              <a:t>“Top Bun”</a:t>
            </a: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 of your essay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96d"/>
                </a:solidFill>
                <a:latin typeface="Comic Sans MS"/>
              </a:rPr>
              <a:t>4-6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30492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Introductory Paragraph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822320"/>
            <a:ext cx="76201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stablish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dff0d"/>
                </a:solidFill>
                <a:uFillTx/>
                <a:latin typeface="Comic Sans MS"/>
              </a:rPr>
              <a:t>TIME &amp; PLA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reate a clear,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dff0d"/>
                </a:solidFill>
                <a:uFillTx/>
                <a:latin typeface="Comic Sans MS"/>
              </a:rPr>
              <a:t>THESIS STAT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[underline or highlight it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ude to the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dff0d"/>
                </a:solidFill>
                <a:uFillTx/>
                <a:latin typeface="Comic Sans MS"/>
              </a:rPr>
              <a:t>SUB-TOPICS</a:t>
            </a: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r categories you will discuss to support your thesis stat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cus on the question at hand—do NOT begin with a “flowery” sent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890960"/>
            <a:ext cx="3352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896d"/>
                </a:solidFill>
                <a:latin typeface="Comic Sans MS"/>
              </a:rPr>
              <a:t>No “laundry list!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533520"/>
            <a:ext cx="7848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"Meat" Paragraph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4960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dff0d"/>
                </a:solidFill>
                <a:uFillTx/>
                <a:latin typeface="Comic Sans MS"/>
              </a:rPr>
              <a:t>“tasty” par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your essay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8-12 sentences+ per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800360"/>
            <a:ext cx="380988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304920"/>
            <a:ext cx="784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The "Meat" Paragraph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27240"/>
            <a:ext cx="8381880" cy="547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dentify your sub-topic or category in the firs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clude the documents that are relevant to support the ideas in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 most of the documents given [</a:t>
            </a: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70%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sure to indicate </a:t>
            </a: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Point-of-Vie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POV)/b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ring in supportive outside information [</a:t>
            </a:r>
            <a:r>
              <a:rPr b="1" lang="en-US" sz="2800" spc="-1" strike="noStrike">
                <a:solidFill>
                  <a:srgbClr val="ff896d"/>
                </a:solidFill>
                <a:latin typeface="Comic Sans MS"/>
              </a:rPr>
              <a:t>o.i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].  </a:t>
            </a:r>
            <a:r>
              <a:rPr b="1" i="1" lang="en-US" sz="2800" spc="-1" strike="noStrike" u="sng">
                <a:solidFill>
                  <a:srgbClr val="ff896d"/>
                </a:solidFill>
                <a:uFillTx/>
                <a:latin typeface="Comic Sans MS"/>
              </a:rPr>
              <a:t>This is critic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y were these documents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3520" y="304920"/>
            <a:ext cx="822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Questions to Ask Yourself About the Document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371600"/>
            <a:ext cx="8381880" cy="429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96d"/>
                </a:solidFill>
                <a:latin typeface="Comic Sans MS"/>
              </a:rPr>
              <a:t>Attribution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Who is this p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y might they be significa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at is the point of view (</a:t>
            </a:r>
            <a:r>
              <a:rPr b="1" lang="en-US" sz="2600" spc="-1" strike="noStrike">
                <a:solidFill>
                  <a:srgbClr val="ff896d"/>
                </a:solidFill>
                <a:latin typeface="Comic Sans MS"/>
              </a:rPr>
              <a:t>POV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) of the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How reliable and accurate is the sour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at is the tone or intent of the document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at other information does this document call to mind?  Use all available c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216480"/>
            <a:ext cx="853452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Comic Sans MS"/>
              </a:rPr>
              <a:t>Remember, docs. can be used in a variety of way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2055960"/>
            <a:ext cx="7848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c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896d"/>
                </a:solidFill>
                <a:latin typeface="Comic Sans MS"/>
              </a:rPr>
              <a:t>Attribution: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ite the author by name, title, or position, if possible.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3000" y="5335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489480"/>
            <a:ext cx="647712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Why is this person and document select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How does it help me answer the ques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057400"/>
            <a:ext cx="2895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896d"/>
                </a:solidFill>
                <a:uFillTx/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63400" y="2905200"/>
            <a:ext cx="66790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John Tyler,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an English writer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said: “...”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Dominican monk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in Florenc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scribe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c000"/>
                </a:solidFill>
                <a:effectLst>
                  <a:outerShdw dist="53966" dir="2700000" blurRad="0" rotWithShape="0">
                    <a:srgbClr val="990000"/>
                  </a:outerShdw>
                </a:effectLst>
                <a:latin typeface="Hot Pizza"/>
              </a:rPr>
              <a:t>Demonstrating (POV) / Bias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00c000"/>
              </a:solidFill>
              <a:effectLst>
                <a:outerShdw dist="53966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9:27Z</dcterms:created>
  <dc:creator>Ms. Susan M. Pojer</dc:creator>
  <dc:description/>
  <dc:language>en-US</dc:language>
  <cp:lastModifiedBy>supojer</cp:lastModifiedBy>
  <dcterms:modified xsi:type="dcterms:W3CDTF">2007-09-27T18:38:59Z</dcterms:modified>
  <cp:revision>105</cp:revision>
  <dc:subject/>
  <dc:title>How to Do an EHAP DBQ</dc:title>
</cp:coreProperties>
</file>